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9D57-7CA4-4A58-B3A7-4BEBC9B3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C2C9-D0BB-4DDA-B9E9-86ACD145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5F13-5C25-4081-81AD-B48A90FF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FED5-40F6-445B-8B4E-8A46851E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FFD12-7A91-4E56-9579-C9F4F4F7D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CE5C5-D5B3-400D-B297-63274868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1D2EF-882D-47A7-8889-AB45320F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044C8-5E80-4FF0-B855-6192C8D0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313C4-5FA3-4BA8-B394-B39E999D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A18E8-FDAE-4C3E-9A2E-C7F88EB7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8961B-545E-4F76-AF17-F51FB7A8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BD34-0E49-46F4-B826-6FD8A350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FE61B-4B72-4715-9683-C6C873C1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81372-54AC-4C3A-BB86-C8BA6F7F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0DFA0-BF68-46FC-A38F-2A99C176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67B3D-F557-4D22-BBFE-45BC7725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B1382-0786-46A9-ABEE-9759B0B6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25B3-9739-4FA1-A1FC-C53B4E60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E7EE-8B6C-4773-AC1D-ACF8EE9A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A9F9-89D3-4709-84D6-3324695C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597B-A970-4AFA-AED3-EA647BCE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9372-19AE-4307-B974-4E35437C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F04-7BD6-408A-BC63-F7F68A33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CC6F-2021-40A0-BDD5-E6179E20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CB91-A9BA-45E0-99FD-C65D3F8E57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3B20-99E2-4DCE-90E5-968D78375B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1327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e3e3ff"/>
                </a:solidFill>
                <a:latin typeface="Arial"/>
              </a:rPr>
              <a:t>Сабақтың жоспары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79280" y="1267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. Ұйымдастыру кезеңі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Сабаққа кіріспе (Оқушыларды сабақтың жоспарымен, мақсатыме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таныстыр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І. Үй тапсырмасын сұрау – (15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Тақырып мазмұнын сұрап шығу (дайындалып келген оқушылардан сұра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ә) Суретпен жұмыс (құстың зәр шығару жүйесінің құрылысын ата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б) “Біліміңді тексер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в) Қорыты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ІІ. Жаңа сабақ – (20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Кіріспе сө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Ә) Жаңа сабақты түсіндір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Б) Қорыты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Ү. Жаңа сабақты пысықтау – (7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“Кім жылдам ойынын” өткі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. Оқушы білімін бағалау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І. Үй тапсырмасы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e3e3ff"/>
                </a:solidFill>
                <a:latin typeface="Monotype Corsiva"/>
              </a:rPr>
              <a:t>Олар: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887640" cy="2735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103640" cy="2735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5084640"/>
            <a:ext cx="3745080" cy="64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Monotype Corsiva"/>
              </a:rPr>
              <a:t>Эритроцит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16360" y="5084640"/>
            <a:ext cx="4032360" cy="64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Monotype Corsiva"/>
              </a:rPr>
              <a:t>Лейкоцит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Monotype Corsiva"/>
              </a:rPr>
              <a:t>IV</a:t>
            </a:r>
            <a:r>
              <a:rPr b="1" lang="kk-KZ" sz="4400" spc="-1" strike="noStrike">
                <a:solidFill>
                  <a:srgbClr val="e3e3ff"/>
                </a:solidFill>
                <a:latin typeface="Monotype Corsiva"/>
              </a:rPr>
              <a:t>. Жаңа сабақты пысықтау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А) “Кім жылдым” ойыны (Оқушыларға жаңа сабақтан сұрақтар қойылады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1. Қанның құрамына қандай заттар кіреді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2. Эритроциттер қандай қызмет атқара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3. Эритроциттердің организм үшін маңызы қанда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4. Лейкоциттер қандай қызмет атқара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5. Эритроциттер қандай мүшелерде түзіледі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6. Қан газ алмасудан басқа тағы қандай қызмет атқара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7. Лейкоциттердің эритроциттерден қандай айырмашылығы бар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8. Эритроциттерді қанның қызыл түйіршігі деп неліктен атай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9.Антидене деген н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10. Табиғи иммунитет деген н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11. Жасанды иммунитет қалай пайда бола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V</a:t>
            </a:r>
            <a:r>
              <a:rPr b="0" lang="kk-KZ" sz="7200" spc="-1" strike="noStrike">
                <a:solidFill>
                  <a:srgbClr val="ffffff"/>
                </a:solidFill>
                <a:latin typeface="Monotype Corsiva"/>
              </a:rPr>
              <a:t>. Оқушы білімін бағала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VI</a:t>
            </a:r>
            <a:r>
              <a:rPr b="0" lang="kk-KZ" sz="7200" spc="-1" strike="noStrike">
                <a:solidFill>
                  <a:srgbClr val="ffffff"/>
                </a:solidFill>
                <a:latin typeface="Monotype Corsiva"/>
              </a:rPr>
              <a:t>. Үй тапсырмасы: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ookman Old Style"/>
              </a:rPr>
              <a:t>§</a:t>
            </a:r>
            <a:r>
              <a:rPr b="0" lang="kk-KZ" sz="7200" spc="-1" strike="noStrike">
                <a:solidFill>
                  <a:srgbClr val="ffffff"/>
                </a:solidFill>
                <a:latin typeface="Bookman Old Style"/>
              </a:rPr>
              <a:t> 39 оқ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Үй тапсырмасын сұрау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А) Тақырып мазмұнын сұрап шығ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Ә) Суретпен жұмыс (оқушыларға құстың зәр шығару жүйесінің құрылысын айтқызу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Б) “Біліміңді тексер”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Ә) Суретпен жұмыс (құстың зәр шығару жүйесінің құрылысын ата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Б) “Біліміңді тексер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ctr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Көпжасушалы жануарлар организмінде түзілетін сыртқа шығарылуы тиіс заттарға нелер жатады? Ол заттарды тізімнен теріп, дәптерлеріңе жазыңда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Оттегі                                              - несе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Көмірқышқыл газы                         -  ваку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ұрылыс материалдары                  - нәжі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анның қызыл түйіршіктер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2. </a:t>
            </a: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Сол жақта көпжасушалы жануарлардың зәршығару мүшелері, оң жақта жануарлардың тізімі берілген. Зәршығару мүшелерінің қайсысы қандай жануарға тән екенін анықтап, дәптерлеріңе жазыңда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А. Бүйрек                           1. шая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Ә. Жасыл без                    2. гид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В. Несепағар                     3. 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Г. Жабынды қабықша       4. паразит аме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Ғ. Вакуоль                          5. кірпікшелі кебісш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e3e3ff"/>
                </a:solidFill>
                <a:latin typeface="Monotype Corsiva"/>
              </a:rPr>
              <a:t>Жаңа сабақ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Тақырыб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man Old Style"/>
              </a:rPr>
              <a:t>§</a:t>
            </a:r>
            <a:r>
              <a:rPr b="0" lang="kk-KZ" sz="5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kk-KZ" sz="5400" spc="-1" strike="noStrike">
                <a:solidFill>
                  <a:srgbClr val="ffffff"/>
                </a:solidFill>
                <a:latin typeface="Monotype Corsiva"/>
              </a:rPr>
              <a:t>Көпжасушалы жануарлардағы қан, лимфа және қанайналым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3e3ff"/>
                </a:solidFill>
                <a:latin typeface="Tahoma"/>
              </a:rPr>
              <a:t>Сабақтың мақса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а)Білімділік: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Көпжасушалы жануарлардағы қан,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лимфа және қанайналым жүйесімен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ұрылысын оқушыларға таныстыру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ә)Дамытушылық: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өз бетінше қорытынды жасауғ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дағдыландыру, танымдық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абілеттерін  дамытып, ізденіске бау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б)Тәрбиелік: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Оқушылардың  жануарларға деге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үйіспеншілігін оята  отырып, тәрбиеле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e3e3ff"/>
                </a:solidFill>
                <a:latin typeface="Monotype Corsiva"/>
              </a:rPr>
              <a:t>Жаңа сабақ жоспа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А) Кіріспе сө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Ә) Қанның организмде атқаратын қызмет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Б) Қанның құра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В) Эритроциттер, Лейкоцит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Г) Организмнің қанайналым жүйес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Г) Қорытын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e3e3ff"/>
                </a:solidFill>
                <a:latin typeface="Monotype Corsiva"/>
              </a:rPr>
              <a:t>Қанның құрамы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600360" cy="550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4716360" y="3716280"/>
          <a:ext cx="3742920" cy="2160360"/>
        </p:xfrm>
        <a:graphic>
          <a:graphicData uri="http://schemas.openxmlformats.org/drawingml/2006/table">
            <a:tbl>
              <a:tblPr/>
              <a:tblGrid>
                <a:gridCol w="1006560"/>
                <a:gridCol w="273636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қан плазмас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қан жасушала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09:09:49Z</dcterms:created>
  <dc:creator>комп</dc:creator>
  <dc:description/>
  <dc:language>en-US</dc:language>
  <cp:lastModifiedBy>Admin</cp:lastModifiedBy>
  <dcterms:modified xsi:type="dcterms:W3CDTF">2010-01-19T16:39:15Z</dcterms:modified>
  <cp:revision>7</cp:revision>
  <dc:subject/>
  <dc:title>Сабақтың жоспары</dc:title>
</cp:coreProperties>
</file>